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6AB561-68AB-4D1B-BDB5-CCF5F26B19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FDE24E-4786-40CE-88FD-36FB85F428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8F8485-404A-4792-B64E-8827CFFC5E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FD4F6F-B7ED-4198-BDAD-053D62DFBC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637D2F-06C0-4E8C-8C4B-70A0A46591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D78DC5-C9E7-4FAC-B02D-446AEEC085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413BFF-57E1-4726-9B1C-A3CFB675CB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CD3E64-19F9-4678-B27B-EC7292B33E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1FE843-F79C-4258-ACE9-69C9246AAF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49653-1F6B-44FD-9A43-205303B97E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5ACE0-BEBC-49A0-BF23-6F42061F1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040E6-44D7-49D5-9F38-10D2306631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B55B5-FA7C-4A35-B391-D4EF8AFF16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dangered Blue Whale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solidFill>
            <a:srgbClr val="333399"/>
          </a:solid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Thomas</a:t>
            </a:r>
            <a:endParaRPr b="0" lang="en-US" sz="3200" spc="-1" strike="noStrike">
              <a:solidFill>
                <a:srgbClr val="000000"/>
              </a:solidFill>
              <a:latin typeface="Arial"/>
            </a:endParaRPr>
          </a:p>
        </p:txBody>
      </p:sp>
      <p:pic>
        <p:nvPicPr>
          <p:cNvPr id="43" name="" descr=""/>
          <p:cNvPicPr/>
          <p:nvPr/>
        </p:nvPicPr>
        <p:blipFill>
          <a:blip r:embed="rId1"/>
          <a:stretch/>
        </p:blipFill>
        <p:spPr>
          <a:xfrm rot="20625000">
            <a:off x="3131640" y="333360"/>
            <a:ext cx="2592360" cy="1771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solidFill>
            <a:srgbClr val="0099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4038480" cy="4525920"/>
          </a:xfrm>
          <a:prstGeom prst="rect">
            <a:avLst/>
          </a:prstGeom>
          <a:solidFill>
            <a:srgbClr val="333399"/>
          </a:solid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ue Whales Are an Endangered species along with albatrosses, penguins, and turtle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 There are only a few hundred left in the world!</a:t>
            </a:r>
            <a:endParaRPr b="0" lang="en-US" sz="2800" spc="-1" strike="noStrike">
              <a:solidFill>
                <a:srgbClr val="000000"/>
              </a:solidFill>
              <a:latin typeface="Arial"/>
            </a:endParaRPr>
          </a:p>
        </p:txBody>
      </p:sp>
      <p:sp>
        <p:nvSpPr>
          <p:cNvPr id="46" name="PlaceHolder 3"/>
          <p:cNvSpPr>
            <a:spLocks noGrp="1"/>
          </p:cNvSpPr>
          <p:nvPr>
            <p:ph/>
          </p:nvPr>
        </p:nvSpPr>
        <p:spPr>
          <a:xfrm>
            <a:off x="4648320" y="1600200"/>
            <a:ext cx="4038480" cy="4525920"/>
          </a:xfrm>
          <a:prstGeom prst="rect">
            <a:avLst/>
          </a:prstGeom>
          <a:solidFill>
            <a:srgbClr val="bbe0e3"/>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what it looks like:</a:t>
            </a:r>
            <a:endParaRPr b="0" lang="en-US" sz="2800" spc="-1" strike="noStrike">
              <a:solidFill>
                <a:srgbClr val="000000"/>
              </a:solidFill>
              <a:latin typeface="Arial"/>
            </a:endParaRPr>
          </a:p>
        </p:txBody>
      </p:sp>
      <p:pic>
        <p:nvPicPr>
          <p:cNvPr id="47" name="" descr=""/>
          <p:cNvPicPr/>
          <p:nvPr/>
        </p:nvPicPr>
        <p:blipFill>
          <a:blip r:embed="rId1"/>
          <a:stretch/>
        </p:blipFill>
        <p:spPr>
          <a:xfrm>
            <a:off x="4859280" y="2637000"/>
            <a:ext cx="3595680" cy="2457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lue Whale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solidFill>
            <a:srgbClr val="bbe0e3"/>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les die from a lot of things and this is just one of the way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
          <p:cNvPicPr/>
          <p:nvPr/>
        </p:nvPicPr>
        <p:blipFill>
          <a:blip r:embed="rId1"/>
          <a:stretch/>
        </p:blipFill>
        <p:spPr>
          <a:xfrm>
            <a:off x="1403280" y="2637000"/>
            <a:ext cx="5715000" cy="3809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ached Whale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solidFill>
            <a:srgbClr val="333399"/>
          </a:solidFill>
          <a:ln w="0">
            <a:noFill/>
          </a:ln>
        </p:spPr>
        <p:txBody>
          <a:bodyPr lIns="90000" rIns="90000" tIns="46800" bIns="46800"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f you have seen a beached whale or seen the “beach’d as” cartoons (or some other reason) you will now how they get there and if not read on…</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ached Whale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solidFill>
            <a:srgbClr val="333399"/>
          </a:solid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les are very smart and have very unique ways of doing things like using their voices to call to each other. But sometimes they don’t know which way is land or sea. So they end up on beaches, but some whales are lucky because they can get washed back out to sea or people can push them back out (lucki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icture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solidFill>
            <a:srgbClr val="bbe0e3"/>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uld’ve seen my pictures but here are some mo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mother and her bab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 name="" descr=""/>
          <p:cNvPicPr/>
          <p:nvPr/>
        </p:nvPicPr>
        <p:blipFill>
          <a:blip r:embed="rId1"/>
          <a:stretch/>
        </p:blipFill>
        <p:spPr>
          <a:xfrm>
            <a:off x="1979640" y="3213000"/>
            <a:ext cx="5183280" cy="3457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Skeleton of a Blue Whale:</a:t>
            </a:r>
            <a:endParaRPr b="0" lang="en-US" sz="3200" spc="-1" strike="noStrike">
              <a:solidFill>
                <a:srgbClr val="000000"/>
              </a:solidFill>
              <a:latin typeface="Arial"/>
            </a:endParaRPr>
          </a:p>
        </p:txBody>
      </p:sp>
      <p:pic>
        <p:nvPicPr>
          <p:cNvPr id="59" name="" descr=""/>
          <p:cNvPicPr/>
          <p:nvPr/>
        </p:nvPicPr>
        <p:blipFill>
          <a:blip r:embed="rId1"/>
          <a:stretch/>
        </p:blipFill>
        <p:spPr>
          <a:xfrm>
            <a:off x="1042920" y="1268280"/>
            <a:ext cx="7129440" cy="5346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solidFill>
            <a:srgbClr val="333399"/>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End</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solidFill>
            <a:srgbClr val="bbe0e3"/>
          </a:solidFill>
          <a:ln w="9360">
            <a:solidFill>
              <a:srgbClr val="ffffff"/>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s for Watching/Reading and Enjoy the rest of your day!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 YOU</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Thom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07T05:51:46Z</dcterms:created>
  <dc:creator>Steve Clarkson</dc:creator>
  <dc:description/>
  <dc:language>en-US</dc:language>
  <cp:lastModifiedBy>Steve Clarkson</cp:lastModifiedBy>
  <dcterms:modified xsi:type="dcterms:W3CDTF">2012-06-07T06:07:39Z</dcterms:modified>
  <cp:revision>2</cp:revision>
  <dc:subject/>
  <dc:title>Endangered Blue Whales</dc:title>
</cp:coreProperties>
</file>